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00F-ED85-4576-B9E6-83193980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993-F51E-48B5-BF3D-08CDEB19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77F-9AB1-4344-84C5-F5019CD71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468-0B92-4550-B354-B4CBB4DD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10CF-284C-4CFF-BF45-76B3D977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925-8A54-4F4C-AAE6-4EAB9055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7BF-D1AE-4BCA-99BE-4352A462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EC13-3AFC-4171-B371-F587C96B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015-B5C2-461C-9623-361920B2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CBFF-42E6-48E5-A8E4-436F91E3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EB2-5B02-40E9-A7CD-36233256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E8F-5CB1-40F9-9D39-46453FD7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02E-8609-4598-B0EB-722B91E2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56A2-4D89-4F4C-BE2D-D61906B2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CCC-1AB6-4E16-87D9-3BD5DE9A3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E18C-E6A1-41C7-93CB-532C8297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706-8962-44E6-A89E-360A26B9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58D-45BC-48B4-AF6E-330BA1C33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1F7-95A3-4644-A8BF-B1BC0307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5A9-4C29-42FE-9F91-86D291B8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4EC8-743D-4DE1-99A5-B4FFC4FD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7F4-B53C-4554-9638-B5E6F544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30FD-9EEB-4C6E-96B1-DAF65BCF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8015-175B-4837-A033-795F6517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C375-2173-4831-A2F0-6029D9E6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242-EB6B-4C27-B2A9-07F06849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DE0-4647-401B-BAE6-926B6659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54B-1612-4859-865D-8BD1D67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E66-4492-49A9-92DE-37A2812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B0A-5829-4673-B860-34C3C94D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7EB-248A-4779-B43C-58E8ED73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50A-5C36-40E4-B780-8A686856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807-5D94-48D5-A539-05B23F6C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64B2-CF58-4ECB-9DEC-1214DAC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C74-B2E2-4D7D-82E1-F68E0A7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981-A020-441C-B711-ECF7537F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EE68-2590-4D54-80BF-6A5D3CA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A2B-F32B-4C11-B0D7-87270BA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278A-B106-405E-B9E9-7219EB5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F300-D883-447B-9DD8-64C0749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8F1D-1E37-4445-ACEF-AEC1210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C537-0DC2-4FA7-A7AE-0D57B91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147A-DA0B-4DAE-A863-B03A8F7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4C6-B5B6-4E08-8435-44EA77E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0C6-05CE-447F-BD40-6ACA25AA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858-4EFE-4A77-9AC9-90B1E25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246-460E-4505-9DBE-3B6E658F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EAD-0545-4939-8970-ECE79BA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DF3-EE99-4A40-922E-341942F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E3B-0736-4E20-ABB5-D5121D3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BD6-F77B-4987-91CF-B404390257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7066-775C-41C1-8DF7-BD44F60792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90720" y="15238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atorresz22</cp:lastModifiedBy>
  <dcterms:modified xsi:type="dcterms:W3CDTF">2010-09-07T19:14:15Z</dcterms:modified>
  <cp:revision>70</cp:revision>
  <dc:subject/>
  <dc:title>Lab Safety</dc:title>
</cp:coreProperties>
</file>